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FB5-FFCC-44AF-B053-849549E5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FDF-5B0C-4EEB-89AB-357A86C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9E8-430E-4E41-A875-4F7D49AD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BFD-F790-48E5-8CB5-7C4EAD1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55D-1792-4624-9C0A-E794FD16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3E-1460-4F49-A1A1-CE63DC39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30F-3A9C-4729-9090-9277ADA9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B22-9B02-4128-8A07-8099E20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23E-D382-4A95-AA16-2520D5E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408-B151-419F-967D-4EBAE2D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CAE-6806-490E-AF46-F36FD10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539-4BFF-4F92-A4C9-949282A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070-27DC-4755-BFC4-1019FCAE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unch capable in 0 mph headwin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0" t="0" r="401" b="0"/>
          <a:stretch/>
        </p:blipFill>
        <p:spPr>
          <a:xfrm>
            <a:off x="533520" y="2438280"/>
            <a:ext cx="8312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DSC00835"/>
          <p:cNvPicPr/>
          <p:nvPr/>
        </p:nvPicPr>
        <p:blipFill>
          <a:blip r:embed="rId1"/>
          <a:srcRect l="0" t="0" r="0" b="23743"/>
          <a:stretch/>
        </p:blipFill>
        <p:spPr>
          <a:xfrm>
            <a:off x="290520" y="2038320"/>
            <a:ext cx="4137120" cy="2365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60360" y="1320840"/>
            <a:ext cx="3860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d Accurate Autonomous Land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Rocks"/>
          <p:cNvPicPr/>
          <p:nvPr/>
        </p:nvPicPr>
        <p:blipFill>
          <a:blip r:embed="rId2"/>
          <a:stretch/>
        </p:blipFill>
        <p:spPr>
          <a:xfrm>
            <a:off x="1827360" y="5924520"/>
            <a:ext cx="371160" cy="2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66640" y="5388120"/>
            <a:ext cx="385920" cy="79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2060640" y="5748480"/>
            <a:ext cx="214200" cy="439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314280" y="5867280"/>
            <a:ext cx="154080" cy="3207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>
            <a:off x="228600" y="6188040"/>
            <a:ext cx="46483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1166760" y="5348160"/>
            <a:ext cx="68112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1250640" y="5348160"/>
            <a:ext cx="27702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847880" y="53481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021200" y="5348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6"/>
          <a:stretch/>
        </p:blipFill>
        <p:spPr>
          <a:xfrm>
            <a:off x="1549440" y="5627520"/>
            <a:ext cx="271440" cy="5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7"/>
          <a:stretch/>
        </p:blipFill>
        <p:spPr>
          <a:xfrm>
            <a:off x="2712960" y="5508720"/>
            <a:ext cx="328680" cy="67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PumaAEProfile"/>
          <p:cNvPicPr/>
          <p:nvPr/>
        </p:nvPicPr>
        <p:blipFill>
          <a:blip r:embed="rId8"/>
          <a:stretch/>
        </p:blipFill>
        <p:spPr>
          <a:xfrm>
            <a:off x="1981080" y="5251320"/>
            <a:ext cx="457200" cy="15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PumaAEProfile"/>
          <p:cNvPicPr/>
          <p:nvPr/>
        </p:nvPicPr>
        <p:blipFill>
          <a:blip r:embed="rId9"/>
          <a:stretch/>
        </p:blipFill>
        <p:spPr>
          <a:xfrm>
            <a:off x="3429000" y="5346720"/>
            <a:ext cx="457200" cy="15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MMWV ICON"/>
          <p:cNvPicPr/>
          <p:nvPr/>
        </p:nvPicPr>
        <p:blipFill>
          <a:blip r:embed="rId10"/>
          <a:stretch/>
        </p:blipFill>
        <p:spPr>
          <a:xfrm>
            <a:off x="3225960" y="5757840"/>
            <a:ext cx="90936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TREE ICON"/>
          <p:cNvPicPr/>
          <p:nvPr/>
        </p:nvPicPr>
        <p:blipFill>
          <a:blip r:embed="rId11"/>
          <a:stretch/>
        </p:blipFill>
        <p:spPr>
          <a:xfrm>
            <a:off x="4092480" y="5396040"/>
            <a:ext cx="787320" cy="73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Rocks"/>
          <p:cNvPicPr/>
          <p:nvPr/>
        </p:nvPicPr>
        <p:blipFill>
          <a:blip r:embed="rId12"/>
          <a:stretch/>
        </p:blipFill>
        <p:spPr>
          <a:xfrm>
            <a:off x="2544840" y="6005520"/>
            <a:ext cx="244440" cy="1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Rocks"/>
          <p:cNvPicPr/>
          <p:nvPr/>
        </p:nvPicPr>
        <p:blipFill>
          <a:blip r:embed="rId13"/>
          <a:stretch/>
        </p:blipFill>
        <p:spPr>
          <a:xfrm>
            <a:off x="4724280" y="5919840"/>
            <a:ext cx="316080" cy="190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665280" y="4711680"/>
            <a:ext cx="4064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ep Insertion Angle for more precise landing and avoidance of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7" descr="DSC00860"/>
          <p:cNvPicPr/>
          <p:nvPr/>
        </p:nvPicPr>
        <p:blipFill>
          <a:blip r:embed="rId14"/>
          <a:srcRect l="12766" t="11894" r="16087" b="34499"/>
          <a:stretch/>
        </p:blipFill>
        <p:spPr>
          <a:xfrm>
            <a:off x="5334120" y="4192560"/>
            <a:ext cx="3233520" cy="1827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0"/>
          <p:cNvSpPr/>
          <p:nvPr/>
        </p:nvSpPr>
        <p:spPr>
          <a:xfrm>
            <a:off x="1641240" y="381492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ft 4 inches from GPS targe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4398840" y="1295280"/>
            <a:ext cx="4394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d Ability to Land in Water, Float  for Extended Period, and Re-launch without Da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DSC00868"/>
          <p:cNvPicPr/>
          <p:nvPr/>
        </p:nvPicPr>
        <p:blipFill>
          <a:blip r:embed="rId15"/>
          <a:srcRect l="0" t="13921" r="0" b="6955"/>
          <a:stretch/>
        </p:blipFill>
        <p:spPr>
          <a:xfrm>
            <a:off x="4648320" y="2057400"/>
            <a:ext cx="41353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0:52:26Z</dcterms:created>
  <dc:creator>PorterfP</dc:creator>
  <dc:description/>
  <dc:language>en-US</dc:language>
  <cp:lastModifiedBy>PorterfP</cp:lastModifiedBy>
  <dcterms:modified xsi:type="dcterms:W3CDTF">2009-04-30T20:55:16Z</dcterms:modified>
  <cp:revision>1</cp:revision>
  <dc:subject/>
  <dc:title>Launch</dc:title>
</cp:coreProperties>
</file>